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APPPHOTO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0E8-1D30-4087-8DD0-8FF7CE6B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644-4664-4E23-BFB5-2BE0880D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D63-8E95-4DDA-9352-03624471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CF2-957E-4AD8-8570-FC4AABAF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44DF-DDB1-4AB7-8B1B-C16CE8D5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0A4F-04B2-40A4-9F96-3065C900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AC4A-F9A2-4065-B02C-2621796D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7110-1FB4-481A-B871-D992FC43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FB18-6E1D-4668-9EA7-9C4A64E3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0698-E448-464A-951B-6BC5D167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3A5B-716D-4AD0-AFA4-753C45B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017-ECF9-4746-A9B4-828E1090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54BE-59CF-4292-9EF2-26C342CF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72F3-26E9-4241-B734-E95BA560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506C-8D2E-470E-9D0E-72247BA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AC29-12E6-4FFC-B0D8-7CF50EBB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2764-2F21-47C8-84EB-AF391D03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F23-62BB-4466-864E-EDECD039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DCB-36FE-4026-BD94-79DA31B8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432-2B6B-4DF1-A477-58CD5258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FB5-E60A-4E13-953A-3217BDA4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2F4-48AB-4C22-854A-EAB9E8D6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914-F45F-4A4E-A3DE-12E1407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147-FC2E-475B-B22D-26EE40D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B3E8-774C-40D4-BD17-C1E5AB928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1F74-E019-462F-8586-89C32A4D9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audio" Target="../media/APPPHOTO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Intégrale définie</a:t>
            </a:r>
            <a:br>
              <a:rPr sz="5400"/>
            </a:b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 ’une fonction continu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oux J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609480" y="380880"/>
            <a:ext cx="2210040" cy="914400"/>
          </a:xfrm>
          <a:custGeom>
            <a:avLst/>
            <a:gdLst>
              <a:gd name="textAreaLeft" fmla="*/ 59040 w 2210040"/>
              <a:gd name="textAreaRight" fmla="*/ 2151000 w 2210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194" h="21600">
                <a:moveTo>
                  <a:pt x="0" y="0"/>
                </a:moveTo>
                <a:lnTo>
                  <a:pt x="52194" y="0"/>
                </a:lnTo>
                <a:lnTo>
                  <a:pt x="52194" y="21600"/>
                </a:lnTo>
                <a:lnTo>
                  <a:pt x="0" y="21600"/>
                </a:lnTo>
                <a:close/>
              </a:path>
              <a:path fill="lightenLess" w="52194" h="21600">
                <a:moveTo>
                  <a:pt x="0" y="0"/>
                </a:moveTo>
                <a:lnTo>
                  <a:pt x="52194" y="0"/>
                </a:lnTo>
                <a:lnTo>
                  <a:pt x="50794" y="1400"/>
                </a:lnTo>
                <a:lnTo>
                  <a:pt x="1400" y="1400"/>
                </a:lnTo>
                <a:close/>
              </a:path>
              <a:path fill="darken" w="52194" h="21600">
                <a:moveTo>
                  <a:pt x="52194" y="0"/>
                </a:moveTo>
                <a:lnTo>
                  <a:pt x="52194" y="21600"/>
                </a:lnTo>
                <a:lnTo>
                  <a:pt x="50794" y="20200"/>
                </a:lnTo>
                <a:lnTo>
                  <a:pt x="50794" y="1400"/>
                </a:lnTo>
                <a:close/>
              </a:path>
              <a:path fill="darkenLess" w="52194" h="21600">
                <a:moveTo>
                  <a:pt x="52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94" y="20200"/>
                </a:lnTo>
                <a:close/>
              </a:path>
              <a:path fill="lighten" w="52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PHO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25) = 0.23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0.75) = 0.60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25) = 0.85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trième a pour aire:0.5f(1.75) = 0.984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2.68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CI6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ons les trois métho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7760" y="1828800"/>
          <a:ext cx="7543800" cy="4578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1828800"/>
                    <a:ext cx="75438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7315200" y="1792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077320" y="1792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endshow"/>
          </p:cNvPr>
          <p:cNvSpPr/>
          <p:nvPr/>
        </p:nvSpPr>
        <p:spPr>
          <a:xfrm>
            <a:off x="5943600" y="60199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APPPHOT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05120"/>
            <a:ext cx="792468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érons une fonction f continue sur l ’intervalle [a,b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ageons l ’intervalle [a,b] en n intervalles partiels consécutifs de longueu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i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borne inférieure de f sur le i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è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le (càd la plus petite valeur de f(x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i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borne supérieure de f sur le i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è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le (càd la plus grande valeur de f(x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ér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la somme s des aires des rectangles de ba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t de hauteur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la somme S des aires des rectangles de ba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t de hauteur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peut démontrer que, lorsque n tend  vers l ’infini, de telle manière qu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d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 zéro , les limites de s et de S existent et sont égales. Cette limite commune est alors appelée « intégrale définie de a à b de la fonction  f » et est l ’aire de la surface plane comprise entre la courbe: y=f(x), l ’axe OX et les droites:x=a et x=b. On 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 rot="10800000">
                <a:off x="1371600" y="5486400"/>
                <a:ext cx="6477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endshow"/>
          </p:cNvPr>
          <p:cNvSpPr/>
          <p:nvPr/>
        </p:nvSpPr>
        <p:spPr>
          <a:xfrm>
            <a:off x="914400" y="45720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PHOT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ise en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demande d ’estimer l ’aire de la surface plane (hachurée) limitée par l ’arc de la parabole               P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y = -0.5x² + 2x sur [0,2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I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54320" cy="29988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5562720" y="54100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èr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artage [0,2] en 4 intervalles de longueur 0.5 et on construit les rectangles hachur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mme des aires de ces rectangles est une approximation par défaut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CI2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5486400" y="54100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5) = 0.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1) =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5) = 0.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2.1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I2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65480" cy="29988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endshow"/>
          </p:cNvPr>
          <p:cNvSpPr/>
          <p:nvPr/>
        </p:nvSpPr>
        <p:spPr>
          <a:xfrm>
            <a:off x="5638680" y="5486400"/>
            <a:ext cx="1524240" cy="609480"/>
          </a:xfrm>
          <a:custGeom>
            <a:avLst/>
            <a:gdLst>
              <a:gd name="textAreaLeft" fmla="*/ 39240 w 1524240"/>
              <a:gd name="textAreaRight" fmla="*/ 1485000 w 15242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élioration de la pré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rtageant [0,2] en 8 intervalles de longueur 0.25 ,on obtient une meilleure estimation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rouve ainsi que la somme des aires des 7 rectangles vaut 2.406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CI4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65480" cy="29988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uxièm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obtenir une approximation par excès de la surface cherchée en construisant les rectangles de la façon suiv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CI3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5) = 0.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1) =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5) = 0.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trième a pour aire:0.5f(2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3.1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I3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éliorons la pré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CI5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rtageant [0,2] en 8 intervalles de longueur 0.25 ,on obtient une meilleure estimation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rouve ainsi que la somme des aires des 8 rectangles vaut 2.906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isièm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aussi construire des rectangles de longueur 0.5 et de hauteur f ( c ) où c est le milieu de chaque intervalle partageant [0,2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I6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4:20:12Z</dcterms:created>
  <dc:creator>Waroux Jean</dc:creator>
  <dc:description/>
  <dc:language>en-US</dc:language>
  <cp:lastModifiedBy>Waroux Jean</cp:lastModifiedBy>
  <dcterms:modified xsi:type="dcterms:W3CDTF">1998-04-26T06:29:34Z</dcterms:modified>
  <cp:revision>23</cp:revision>
  <dc:subject/>
  <dc:title>Intégrale définie d ’une fonction continue.</dc:title>
</cp:coreProperties>
</file>